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B202-A52E-4A5B-853A-740ECAD5B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E892-8913-411B-9A82-F265DB81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B66-5CBE-4A0F-B358-9A326A35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9DC-7A1A-4A04-96F0-B17EA675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F79-1136-4BD9-87CA-37E38ADC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3CC-7AF9-4D3A-9C95-C7228BC0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A2B-77B5-4525-B19C-98710BC1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B34-A35E-4B38-96A9-D26D313B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984-531E-4F06-8516-24CD780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812-4914-491C-9ABE-C808AB62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461-B19E-4290-AE1B-9E248CF9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E96-E13B-4703-92B8-2BC86D6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645-CFEE-4AEE-992D-01DBE1FA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12F-17D3-4E6F-BACB-EC60A92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6B0E-2F33-4E2E-B907-6C65EEC44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est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o siento, no puedo venir a tu casa. Nuestra familia caminamos al mar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e. Yo quiero divertirme! ¿por qué no vienes a mi casa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 Aww quiere vivir tu vid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días Masiel! ¿Tú quieres comer helado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ro comer helado pero dónde puede como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34Z</dcterms:modified>
  <cp:revision>110</cp:revision>
  <dc:subject/>
  <dc:title>Profile</dc:title>
</cp:coreProperties>
</file>